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BFC2-291F-40AA-8135-AE48AC345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66CF-8B4C-4C36-971D-077B9E80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D171-3E4D-46D8-81AF-D3FD210D0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C9A9-5B03-4B08-A9F3-EB9CC0AF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B643A-5D68-4CA8-975E-9AFAF9E04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E181-0EF1-4D14-B886-FD476526C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5BC5-608E-4DFA-B473-FBC712C2A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77BDD-CF0A-4862-8B6E-DAD36918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FB3B0-9B2D-4749-91A6-C3BC01ACE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4CB2-BD30-44DE-80A3-F0B82F999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DAA5D-7479-4BF2-BFA4-58F03BA3B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FE8-5A93-4FA4-A90B-4E485BD60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4EA9-4B1F-45A4-BEB5-2DBF5AB2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2D0B9-161D-48F8-8BEB-163D7E67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A473A-5B31-4F74-9A79-49DF3DBF7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B1B6-2243-459E-B68D-6F97BB400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42EA3-2187-4A74-AE84-57E786ECD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BD47EA-FD06-45FE-AA8F-23BA8388E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DB7C3-DC1F-46C0-A4C3-4BD20E5D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E2929-6CA0-4D7E-BFD5-C08F92960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6BF60-703A-4DC3-9A11-D39A517FF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C22FD-46DD-4462-9E6A-1A3609B68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D637-9633-4458-900E-8B92D7A4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9DD3C-96B3-4276-BEE2-955B6879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932AA-D744-44D8-875F-E8B9E167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EF22C2-7AE8-4FD7-8138-E4C1C610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C4B467-4CBA-4E8F-97C6-306448A7D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B5F03-866B-44D0-B9B9-86A50B917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F3D7A1-F2A1-491A-95F2-D2EA2ABB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FE5E-498C-4C99-9DDF-5023E9D90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444472-42C6-45B6-9DB3-21889154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3D558-4896-4A58-9AC4-E569B2FF4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E3DD3F-0DE6-48EF-A33D-C5EEBCED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38AA-A398-4BF1-B8EF-411CD46B9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8E3C7-9D77-491A-9A1B-0B3334190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21F306-5EF5-4192-8981-F42EFFD6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F93AC4-37FC-4A93-9B12-535E5B64E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84B8C4-46E3-4862-9301-C9A7417D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AF07C6-2548-4FE6-8966-B5F2D0BE4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8F4172-5C2B-418E-8153-F9F6809A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C1917A-BBD7-4B4C-83AE-7CE0DBF18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C116D-34E2-40E4-8BD5-36BF2E22F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73417-1084-46AA-B219-3BD1BBD60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5C4D4-AFD4-4EFD-8189-9EE6CD451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8C0E-62AE-4749-BE40-3757FC04A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75D6-E685-4813-9133-86CB5E7F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00A4-00CF-41A3-95EB-D07D16829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2B15-1412-4867-9498-E104287C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ADBEF-C08C-48C1-A093-0814B5380689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CF7B-590B-4A26-8128-01B0FDB53C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24224-F84E-490A-9EFD-90BD2FECC924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4671C-A53A-405D-B5A9-548F8BAA313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20AB5-C1A1-47D2-93F5-8E10D6180D38}" type="datetime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B1C3D-F323-4FD7-B0D4-0A455675E53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B61F7-B873-4F5C-B0B9-D82272D40CBC}" type="datetime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D4794-B852-4DB6-A504-AEBEDEC37EA1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echtipswcsd.wikispace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24828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Webster Secondary Schools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2007-2008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21</a:t>
            </a:r>
            <a:r>
              <a:rPr b="0" lang="en-US" sz="49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 Century Technology Tools</a:t>
            </a:r>
            <a:br>
              <a:rPr sz="4900"/>
            </a:b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Working Smarter </a:t>
            </a:r>
            <a:r>
              <a:rPr b="0" i="1" lang="en-US" sz="4900" spc="-1" strike="noStrike">
                <a:solidFill>
                  <a:srgbClr val="04617b"/>
                </a:solidFill>
                <a:latin typeface="Calibri"/>
              </a:rPr>
              <a:t>NOT</a:t>
            </a: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 Harder</a:t>
            </a: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Emily VerHow—Spry Middle School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Julie Bianchi—Willink Middle School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Dave Leahy—Schroeder High School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Rachel Ciesluk—Thomas High School</a:t>
            </a:r>
            <a:br>
              <a:rPr sz="2200"/>
            </a:br>
            <a:r>
              <a:rPr b="0" lang="en-US" sz="2200" spc="-1" strike="noStrike">
                <a:solidFill>
                  <a:srgbClr val="04617b"/>
                </a:solidFill>
                <a:latin typeface="Calibri"/>
              </a:rPr>
              <a:t>Barb Goldammer—Curriculum Supervisor for Math</a:t>
            </a:r>
            <a:br>
              <a:rPr sz="5400"/>
            </a:br>
            <a:endParaRPr b="0" lang="en-US" sz="22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Representative Lis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ordin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ood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SS Calenda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unication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Skyp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Blog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RSS, Google Read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Twitter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Shar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Wiki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Google doc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Moodle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80000"/>
              </a:lnSpc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Delic.io.u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Face 2 Face Learning</a:t>
            </a:r>
            <a:br>
              <a:rPr sz="5000"/>
            </a:b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2007-2008   &amp;  2008-2009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epartment Meet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ead Teacher Meet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LCs-Professional Learning Comm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eer-to-Pe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ech Tal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-Plann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Video Conferencing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mmittee Meeting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Tools Wiki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techtipswcsd.wikispaces.com/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Samples from 2007-2008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ki for senior project on aquaponic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mo of wiki, delic.io.us, skype with technology department mee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tilizing Skype PLC tim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kis for Algebra, Math Resources, Administrative Instructional Counci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oodle for meeting coord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Middle School Enrichment Blog for students book talk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Videoconferencing with Skype with colleagu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ebsit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alendar with team for testing/project coordina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7:19:57Z</dcterms:created>
  <dc:creator>cshell</dc:creator>
  <dc:description/>
  <dc:language>en-US</dc:language>
  <cp:lastModifiedBy>cshell</cp:lastModifiedBy>
  <dcterms:modified xsi:type="dcterms:W3CDTF">2008-04-25T13:08:53Z</dcterms:modified>
  <cp:revision>16</cp:revision>
  <dc:subject/>
  <dc:title>Powerful Learning Practices</dc:title>
</cp:coreProperties>
</file>